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3805-5EA1-4FD0-9CD9-FE59E133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8669-80E0-4AAB-9C39-2C555342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730F-BC9A-480B-AFB2-43A7EC964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8BC-606C-4D7B-A4EC-52979672B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FE7B-A58C-48D8-AF78-AA02E140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5202-EDA3-428C-8FEB-4003CEBB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AB75-0671-416B-9C37-8F2956C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AF50-73B2-41AC-97E6-6F2BC715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E894-CD13-4FF2-8DE5-53466C52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6FEC-84BE-4A35-BD74-7E652262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CE9-B349-4593-8719-AEE79D81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F1B-90DD-4658-8D94-E3EA4D45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ECC7-17FC-4050-AC9E-53ECACEE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654E-15B3-462D-9616-B5B46D4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033A-E7A6-49AD-8CFE-35C8AF14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49259-AF21-4427-84E8-99E49783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8D62-2D38-4650-B0E8-B9E9AB1C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C7F-AA01-422C-9641-56D30380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073F-8F9B-4AEE-8BF9-1DCB5C3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6602-16D0-40C9-92F9-49D1D379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5A8-DB12-48E5-8E84-BBCA6906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81B-B624-483F-A024-10D6AEA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1C0-AFE9-4F46-88F9-3BEE4CB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732-D406-4285-B5D2-3F4AE94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4A56-5BD4-469B-8462-75D7EEDFE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47F-77BC-42A3-B42D-F41808A67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ase Study Hwk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troph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What is i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e of chemical nutrients (usually phosphates and nitrates) into an ecosystem (usually aquati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natural or artifi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tificial =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ultural eutroph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nthropogenic Caus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rtilizer, animal waste, human sewage…running off into a body of water (runoff from a source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fflue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tep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Nutrients stimulate growth of algae and photosynthetic bac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Form mats that block sunlight to lower levels of 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Lower algae, plants and photo. bacteria d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These decay and make food for other bacteria which use up the oxygen decomposing the d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As dissolved oxygen in the water is depleted, fish and other orgs die (DO is measured in mg/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less than 5 mg/L is considered pollu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ke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l Lake in Washing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Barrier Reef in Austral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d Zones world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emed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p runoff (effluent) from reaching lake, re-route or store in settling pond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or stop runof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e pollutants and excess nutrients from runoff prior to entering body of water (ie: sewage treatment pl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4:00:41Z</dcterms:created>
  <dc:creator>tosborne</dc:creator>
  <dc:description/>
  <dc:language>en-US</dc:language>
  <cp:lastModifiedBy>infosys</cp:lastModifiedBy>
  <dcterms:modified xsi:type="dcterms:W3CDTF">2015-09-30T15:44:14Z</dcterms:modified>
  <cp:revision>5</cp:revision>
  <dc:subject/>
  <dc:title>Case Study Hwk</dc:title>
</cp:coreProperties>
</file>